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21E-3293-404B-8A62-2840F4B2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C04-7138-4E48-A34E-E756DD5C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98A-77B1-42C4-8705-2B5BB9BD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412-F8B3-4D84-8F75-7D7FB56F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BEE-5DA9-4EB1-890B-F5C13F32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FBA-1D24-4B23-85C1-FF07E93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0EE-7FA9-4CE6-87E0-5E99DF9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58A-41C4-473E-BF60-09633B0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683-C377-47CB-809E-CAAF58F8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C43-D543-4F4A-A732-AFD8242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5DD-CD87-47C9-A2F4-8A8F014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B13-A92E-4C15-84D0-26FBD5F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8DC-B884-4A9E-A821-DE80BD385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77960" y="8493120"/>
            <a:ext cx="621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bottOldStyle"/>
              </a:rPr>
              <a:t>Order of Op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28600" y="4800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2057400" y="49528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38480" y="48006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5943600" y="48006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7"/>
          <p:cNvSpPr/>
          <p:nvPr/>
        </p:nvSpPr>
        <p:spPr>
          <a:xfrm>
            <a:off x="-2743200" y="609480"/>
            <a:ext cx="1935000" cy="268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graphics or pictures in these bo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2286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850-Deco"/>
              </a:rPr>
              <a:t>(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4114800" y="1219320"/>
            <a:ext cx="16002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-25000">
                <a:solidFill>
                  <a:srgbClr val="000000"/>
                </a:solidFill>
                <a:latin typeface="A850-Deco"/>
              </a:rPr>
              <a:t>x</a:t>
            </a:r>
            <a:r>
              <a:rPr b="1" lang="en-US" sz="1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5943600" y="838080"/>
            <a:ext cx="1600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 baseline="30000">
                <a:solidFill>
                  <a:srgbClr val="000000"/>
                </a:solidFill>
                <a:latin typeface="A850-Deco"/>
              </a:rPr>
              <a:t>+</a:t>
            </a:r>
            <a:r>
              <a:rPr b="1" lang="en-US" sz="11200" spc="-1" strike="noStrike">
                <a:solidFill>
                  <a:srgbClr val="000000"/>
                </a:solidFill>
                <a:latin typeface="A850-Deco"/>
              </a:rPr>
              <a:t> </a:t>
            </a:r>
            <a:r>
              <a:rPr b="1" lang="en-US" sz="11200" spc="-1" strike="noStrike" baseline="-25000">
                <a:solidFill>
                  <a:srgbClr val="000000"/>
                </a:solidFill>
                <a:latin typeface="A850-Deco"/>
              </a:rPr>
              <a:t>-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133720" y="1295280"/>
            <a:ext cx="16002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baseline="-25000">
                <a:solidFill>
                  <a:srgbClr val="000000"/>
                </a:solidFill>
                <a:latin typeface="A850-Deco"/>
              </a:rPr>
              <a:t>3</a:t>
            </a:r>
            <a:r>
              <a:rPr b="1" lang="en-US" sz="8000" spc="-1" strike="noStrike" baseline="30000">
                <a:solidFill>
                  <a:srgbClr val="000000"/>
                </a:solidFill>
                <a:latin typeface="A850-Deco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 rot="10800000">
            <a:off x="2133360" y="35640"/>
            <a:ext cx="1600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M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D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 rot="10800000">
            <a:off x="6019560" y="7056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A850-Deco"/>
              </a:rPr>
              <a:t>P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 rot="10800000">
            <a:off x="4038120" y="70560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00"/>
                </a:solidFill>
                <a:latin typeface="A850-Deco"/>
              </a:rPr>
              <a:t>E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17"/>
          <p:cNvSpPr/>
          <p:nvPr/>
        </p:nvSpPr>
        <p:spPr>
          <a:xfrm>
            <a:off x="-3048120" y="609480"/>
            <a:ext cx="2849760" cy="3353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pictures in these boxes, add text, or do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Decision 19"/>
          <p:cNvSpPr/>
          <p:nvPr/>
        </p:nvSpPr>
        <p:spPr>
          <a:xfrm>
            <a:off x="-3276720" y="5334120"/>
            <a:ext cx="2971800" cy="281916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slide one.  Feed the paper back through and print slid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lowchart: Decision 20"/>
          <p:cNvSpPr/>
          <p:nvPr/>
        </p:nvSpPr>
        <p:spPr>
          <a:xfrm>
            <a:off x="7848720" y="4419720"/>
            <a:ext cx="3429000" cy="335268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printing cut between vertical slits between flaps.  Cut between the top rectangl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 rot="10800000">
            <a:off x="228240" y="35640"/>
            <a:ext cx="1600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A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400" spc="-1" strike="noStrike">
                <a:solidFill>
                  <a:srgbClr val="000000"/>
                </a:solidFill>
                <a:latin typeface="A850-Deco"/>
              </a:rPr>
              <a:t>S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58:47Z</dcterms:created>
  <dc:creator>ccunningham</dc:creator>
  <dc:description/>
  <dc:language>en-US</dc:language>
  <cp:lastModifiedBy>Valued Acer Customer</cp:lastModifiedBy>
  <dcterms:modified xsi:type="dcterms:W3CDTF">2010-07-12T15:07:56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